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7EA-63D9-42DE-87F7-A8D21175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532-2410-4C41-8E49-8236C345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0C9-ECD8-4B77-B35E-9D6E9CFB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818-D1A9-408A-83B8-E58EFB4E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3579-0296-479A-B741-1AB6FB77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63DC-0DE1-465B-A4B4-153266C1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98D-AFDD-4C7A-8B45-54BDC670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4ED-17C8-4CC5-A5A7-3341B621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ABAB-82E5-48A2-95E0-B92F6B32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D46-AA04-41E8-83ED-8E28109C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AA3-ACB6-418E-994C-222D5690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9678-F859-419E-920F-1C1EF346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D07A-0312-4FCB-AEB0-19C6F23D4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1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n, Median and M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6040" y="2068560"/>
            <a:ext cx="35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1: Finding the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6520" y="2046240"/>
            <a:ext cx="134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4040" y="220968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he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08160" y="3059280"/>
            <a:ext cx="70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he middle number when the numbers are in numerical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9120" y="3897360"/>
            <a:ext cx="39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he number that occurs the 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38188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315200" cy="65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86600" y="182880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22960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3818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229600" cy="138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71600" y="2743200"/>
            <a:ext cx="3581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2743200"/>
            <a:ext cx="3429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22000" y="344520"/>
            <a:ext cx="64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2: Finding the median and th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6201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00100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00:09:53Z</dcterms:created>
  <dc:creator>Graham</dc:creator>
  <dc:description/>
  <dc:language>en-US</dc:language>
  <cp:lastModifiedBy>Graham</cp:lastModifiedBy>
  <dcterms:modified xsi:type="dcterms:W3CDTF">2011-08-31T00:09:58Z</dcterms:modified>
  <cp:revision>1</cp:revision>
  <dc:subject/>
  <dc:title>Lesson 1.10 Mean, Median and Mode</dc:title>
</cp:coreProperties>
</file>